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breeze.wav" ContentType="audio/x-wav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50CA-84C1-4366-ADA2-700136ED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944F-6D85-4F6E-8097-8253F022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0C760-5F7D-4442-9266-F1B06F1C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0CBA5-933C-4E9F-94E9-A2707322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FF931-3D7C-4857-B2CB-F0CCDE51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332A5-9E21-4FFC-8D7E-0EDFCE9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674C4-F4DC-4867-AF70-88D09F6B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1191F-02C4-419C-8671-CED0B49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BA0C5-3329-4A68-9446-DCC20845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D8CFC-4968-4EDA-A1E2-C7ADBB58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244E7-FBC8-441A-B2ED-2FE694A6B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3084A-28B6-4848-9EB4-62A054BF3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BEA-4FD6-49EC-A119-282A5016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D1710-8C65-4596-A098-3EECB072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C748E-58AE-4D33-99D9-5AC6A13D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12C21-970F-4E38-B05E-1A0AC162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96856-4309-411D-8907-3861151A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E99C6-AF29-4FAC-84F9-F2836574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5ADC6-E73F-4E51-B6FE-C74E1A7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F8BFE-1E62-4DD9-8C7C-C8230C3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15797-6D73-4E6A-B9A1-4AC8FCD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BC646-D3DD-435E-A12F-2730CC9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D2F6E-335F-4A6C-8EDE-A1156124F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93CF-2479-4336-83F1-D19C6EC6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350AA-7990-4C5C-94D6-7540506C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F64AF-D651-4080-9CA8-0CFB7D3F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1D5D3-B780-4885-B589-19A3E284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D8A7F-6E31-4E4C-B628-373BBB84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480D5-DA6E-4121-BF15-43E8676C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3956C-4ABA-4D4C-8C79-75EDCCD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0234B-2063-402F-9E94-DCF2704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2F564-148D-4251-85CA-63E555E0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2A7B6-6B5F-4054-B2E8-14EB9058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7191F-5092-4B69-A3F9-CB675A3D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260E-B98F-4583-A7C7-DD9A9F0A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C2582-ACA1-464A-B72D-69DBBE25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20313-01E1-420B-8748-5DCD729F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9C8B49-B2E4-4E57-BA40-C7B75C91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8592E-D48A-4239-8692-2F8CDE82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75CF6-545D-4664-8BAF-16C91AE1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D8FF5-8385-4943-A786-42109C5E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B585C-70C6-44A0-9757-5E9A8BA8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7B7BC-7373-42DC-830B-45E9EA5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260B9-6380-44AC-A5D6-6DEC94CB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29542-6D8D-4582-A2DF-E44226E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3B78-05DC-49A3-A6D3-2F3AFB97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26489-A612-4666-8E0C-E3D890E5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472EE-FC94-44D2-A910-F4477843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DD280-A75D-4603-AFBB-9712763E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AC1F8-D1AC-444C-A986-C924B662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404F3-1E46-4360-9DA3-24243E3D1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493D-B0C3-43BD-9642-0A2310F4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FF63-0ADB-4DCE-90E4-8D3CF0FB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08C2-4EFF-49E9-9FD1-F0EDEA8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6AB5-B07E-4CA1-A09C-08539968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5D8C-F5B4-4671-8468-477A8C74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CDD-78ED-4137-8B35-D65A0BB3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0A51-947D-49C9-9798-DBE6C6C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F966-27D5-453E-A201-A4E08710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4A4C-884E-4BF3-A218-1D7D4E2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9A57-2AFB-4AF1-B33E-EB463F95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66D7-E2FC-4390-BD7A-5B416905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548B-82BC-49FA-84CA-F7860B19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74B0-C851-47F2-B566-2CA8D246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72E70-23F8-462A-9379-A2296E12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70E4B-A2BC-4251-A3F6-C76709E2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6697-C3EC-487B-9271-E06D8B8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BE2-6481-4CB3-8F9D-6800F4D2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03B9-7E52-4BC2-A44B-37FC2874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C50CA-4E7F-45BE-BA42-20D9DD2D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F063D-B19F-4F73-B218-1851B43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E84D-F094-485C-8C51-EEA21F8D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02774-5A0E-408F-AB4E-C06D5CE7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0AAAD-5AA2-452A-B6DB-5D58E4A6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9BB6-601F-48EC-99E1-08139D19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5F70A-B205-4A6F-B53B-0CA61EEA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658C-A09E-4C9A-9825-F61900CC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1447-EDFE-4873-AC27-A1EEB2E1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B7ED-2A8E-4C9B-9188-EE4221E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7134-E2BA-446A-9A91-0B236708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28D3E-3AFA-4B2C-9EDB-1014BE4F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519F1-7A83-45DB-81B4-9022881F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23A41-63D7-4EEC-9BF4-CB265BC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6739-8846-4B65-A11B-215892D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17DC9-1212-49AD-85A1-17B71968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CA83C-87F9-49C3-BF3A-97F71F39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DA3A-C70B-42F5-937B-01272795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3D57-7F74-4B79-82E7-38BBA03B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EE79-7AB6-4008-ABC8-C914E414F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6C7-69F3-45BF-90D3-AA201E40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73E6-18A8-4729-ABAE-C5AE18B0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658C7-8C58-4FEF-9D7D-0642DF38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ED0E-D780-419E-873D-F24D5856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EE63-B43E-49D1-87B2-268FA271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012F-3379-4B26-9B0F-0D212918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BD311-072C-4BD0-B02F-B36D9AC2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EB6F-95BB-4FEF-9C90-E2F8A7DC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580A6-5CCB-457E-BC4B-858053FA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F6D92-2DFD-437A-840D-A544EA1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7F18F-5C20-4C2F-894B-36B5BC36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9F3-B0FC-428D-B344-9D6842E3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49FA0-94D1-41BB-AFEC-064E7838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ABCA-3BF9-49DE-A982-3C965462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28E02-758E-4EBC-A482-47062441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C3797-43DF-4B12-A774-F11EA154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B6DB6-7E91-4DB0-9E54-77AE538F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20C99-061B-4590-AFBA-D4AC8EE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26665-1C70-4172-8392-0EBB579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70EF-DBFC-40DF-9141-E2D5741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F2C67-E736-4B9E-A87C-9BBBCFE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4FD03-4783-47F5-B7D7-D1DE625F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34BD-CB19-4792-9CA1-F9D47F0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E834B-5AF8-44DA-85C9-A5D9C87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4B3E1-BD0E-4F54-8105-A0D818CF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BBAD-58A3-4366-98C6-932FD9AF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DC2A8-54F5-4910-A195-9CD8C844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03555-50E8-412F-930B-0F489CE5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07983-874C-4B79-A240-7727644B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26B62-0ACC-4AC5-B765-48849DFA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331B-DE0C-4EAE-8957-069398A2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C7C3E-FF76-43AE-A6CD-8551C39B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C7D04-51D0-4699-8895-9610B5E1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2F49-D99B-44C4-8A1F-132C1C33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96FE-38D9-4DD9-8C23-E39D7612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8FDD-2037-47D7-BE28-729B8824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DEC8A-F648-44FE-A8CE-CA7223193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1D78C-5220-4AD0-91E2-C3EA68B4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B206-084D-4F0B-BE98-6E8E57F8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763E8-D2B0-4B23-BC5B-0D530BE0D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2270-D524-45F1-A702-312FCA89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A99E-396B-42E7-A6DA-A702EEE0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20D5E-E47A-4A7A-8597-D982D57E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68554-8076-44EE-898B-D06D9C75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4998-3761-4109-A68C-5BC4EBE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61B78-535D-4E52-89D0-45425789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8840C-99D2-4028-B5D4-DDA5FE9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C6A1F-4CDF-43C5-B17B-CFE9889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03053-1D80-446E-A957-877BB0D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2653F-E97D-4E3A-9D47-10664019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40979-F73B-4EFB-BA3A-4873CDA1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CE2F3-9ECC-4996-82C3-49170809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D9240-02A9-47C5-B651-B4F5CE4D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0847A-9E2C-49C5-BA7D-72D5085D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24B01-678F-4D2C-B11F-0E3FD773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426-63EE-460A-B56C-208EDDFFB962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012C-6D30-464F-BD1F-7EE1F3B5805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9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C960-AEE3-49E7-81F9-D8F9D38846F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B65-E864-4833-8297-2E989BE1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6845-1CCC-4603-956B-8EC867E95DF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351-F7A0-4483-BADA-1437A443D5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D628-7450-4C25-82D5-74D24C112C7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9E21-FE2C-4EAB-8894-736855557F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928B-D54B-47A8-AF5E-352F1194D47B}" type="datetime">
              <a:rPr b="0" lang="en-US" sz="12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3717-C805-42BB-A697-C70378432B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749-5362-4E17-88ED-EDF7B96245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068-9BBE-4EB0-8665-05B196DEF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F87-0CC3-4F67-8CE4-2EB08AAB47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B787-B655-48E5-8E24-A025C86EC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0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1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3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8A72-16FE-450C-83F5-64362EDA7C20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F56-37A1-4701-9DD6-ED2E97050CD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A3CF-D3AE-4067-8AD4-68B301B026CD}" type="datetime">
              <a:rPr b="0" lang="en-US" sz="10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FD78-C0C2-45DD-83B6-231704129E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A7A5-C039-4479-9CF4-61328789988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0A7-C936-4977-8B30-4791BFE11B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85D4-3EA5-4FD4-8E53-7B605A82381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186E-DE94-499B-9AA8-2DA82918D1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4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9A38-47A2-4427-B746-33273B8490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F76B-4722-40C6-9BAC-B5075BB1A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ndul.info/poze/stiinta-si-tehnologia/cimpanzeii-mananca-tarana-pentru-sanatate.html?4588;2333416&amp;type=main_picture&amp;ptr=0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o.wikibooks.org/wiki/Imagine:Red_Squirrel_-_Lazienki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ccecff"/>
                </a:solidFill>
                <a:latin typeface="Bookman Old Style"/>
              </a:rPr>
              <a:t>CURIOZITATI DIN LUMEA VIE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F2CC-29EA-46EB-A194-F0E8C194F44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6EA47549-FE3D-4C5E-84DB-1A51D1629AD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1640" y="404280"/>
            <a:ext cx="8229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Care este cea mai mare insecta de pe pamant? Unde traiest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1640" y="2097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a mai mare insecta este carabusul elefant; traieste in Venezuela si cantareste circa 250 de gra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519280" y="4221000"/>
            <a:ext cx="410544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E11-0944-4163-9E0D-92716D980D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8D100-719F-431B-8488-A2D21C03F3B7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eec94"/>
                </a:solidFill>
                <a:latin typeface="Times New Roman"/>
              </a:rPr>
              <a:t>Cate oua fac intr-un an diferite specii de pasari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inguinul depune in cuibul sau un singur ou, strutul – 30, pasarile cantatoare in jur de 4-5 oua, gasca intre 15-25 de oua, curca 20-25 oua, rata – 40 oua, gaina – 130 oua, in medie.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442764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E821C-89AC-4D89-B5EF-CC7E4D3390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B0A2BE77-26FC-4D4C-AE6D-B00B3B1302AB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873000"/>
            <a:ext cx="82296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>
                <a:solidFill>
                  <a:srgbClr val="feec94"/>
                </a:solidFill>
                <a:latin typeface="Sylfaen"/>
              </a:rPr>
              <a:t>Cat timp dorm iepurii?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epurii salbatici dorm foarte mult, intre 16 si 21 de ore pe z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" descr="Iepure de calculator"/>
          <p:cNvPicPr/>
          <p:nvPr/>
        </p:nvPicPr>
        <p:blipFill>
          <a:blip r:embed="rId1"/>
          <a:stretch/>
        </p:blipFill>
        <p:spPr>
          <a:xfrm>
            <a:off x="2664000" y="3681360"/>
            <a:ext cx="4537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14B37-FD2B-4417-80B7-47FD8F9A08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402FD30-234F-4FD9-B66C-A115C712B6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b76"/>
                </a:solidFill>
                <a:latin typeface="Arial"/>
              </a:rPr>
              <a:t>Ce metoda originala folosesc cimpanzeii pentru a se hrani cu termite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GB" sz="2800" spc="-1" strike="noStrike">
                <a:solidFill>
                  <a:srgbClr val="ffffff"/>
                </a:solidFill>
                <a:latin typeface="Abc"/>
              </a:rPr>
              <a:t>Fiecare maimuta are o ramurica subtire pe care o introduce in galerii. Cand le retrag de acolo, betisoarele sunt acoperite de insecte, pe care cimpanzeii le mananc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3753000"/>
            <a:ext cx="4248360" cy="288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2A5F2-249E-43D4-9C8E-106E6F0407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E2CD324-731B-449D-88D1-DEDAFF5BEC9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00ccff"/>
                </a:solidFill>
                <a:latin typeface="Tahoma"/>
              </a:rPr>
              <a:t>Care este cel mai mare peste din Marea Neagra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247640" y="2241360"/>
            <a:ext cx="447516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Morunul, ce ajunge pana 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4 metri lungime, 1500 kg 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sto MT"/>
              </a:rPr>
              <a:t>poate trai peste 100 de ani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3924000" cy="34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C90B3-5B3D-4063-BB60-9F0E7121B1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6531788-1C8E-4E22-B222-51116FA17F4D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i="1" lang="en-US" sz="4000" spc="-1" strike="noStrike">
                <a:solidFill>
                  <a:srgbClr val="ffffb7"/>
                </a:solidFill>
                <a:latin typeface="Bookman Old Style"/>
              </a:rPr>
              <a:t>La ce isi foloseste veverita coada lunga si stufoasa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oada stufoasa a veveritei o ajuta pe aceasta sa-si mentina echilibrul in timpul salturilor de pe o creanga pe alta. Ea serveste ca “patura” in iernile geroa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32000" y="4113360"/>
            <a:ext cx="3997440" cy="25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D0ADE-B36F-4E13-BB82-31F22D1029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D6604EA-897D-4DC1-AC8C-DE794A6ECEEA}" type="datetime1">
              <a:rPr lang="en-US"/>
              <a:t>07/28/26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9966"/>
                </a:solidFill>
                <a:latin typeface="Felix Titling"/>
              </a:rPr>
              <a:t>Cum dorm elefantii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5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fantii africani dorm in picioare ( ca si caii ), iar cei asiatici dorm intinsi pe ierburi aflate pe paman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46" name="" descr="ID: #224-elefanti galerie de wallpapere"/>
          <p:cNvPicPr/>
          <p:nvPr/>
        </p:nvPicPr>
        <p:blipFill>
          <a:blip r:embed="rId1"/>
          <a:stretch/>
        </p:blipFill>
        <p:spPr>
          <a:xfrm>
            <a:off x="2448000" y="1160640"/>
            <a:ext cx="4282920" cy="273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49B7-85FF-4F27-BF30-DB466C19FE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5EC249E-0D9F-4D81-B399-99E9131A61A3}" type="datetime1">
              <a:rPr lang="en-US"/>
              <a:t>07/28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at cantareste un fir de paianjen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18920" y="2528640"/>
            <a:ext cx="8173800" cy="39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 fir de paianjen cu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tem inconjura globu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mantesc cantares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umai   300  de gr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50920" y="1881360"/>
            <a:ext cx="3668760" cy="471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F64FD-A2E3-4753-8774-589C6912EB3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174DA3C-B110-4DF1-B897-842E830862B8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ULIA</cp:lastModifiedBy>
  <dcterms:modified xsi:type="dcterms:W3CDTF">2010-01-07T16:01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